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5C2-DBA7-4D95-8CA8-5ACFEED8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9D80-BCE9-481A-9D3C-4FFCA915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DC5-DA1F-4104-8F44-07F270B4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2205-3D42-4BA0-A071-7CEECE43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ECD-B19F-4C55-867B-22A3BA90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3B92-AD07-4250-8D57-1CCD6AA3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DDB4-CF2A-4E16-BA6C-4E7DD817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F0E-E143-4368-8200-B46DF5EF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D30-97BB-48FF-9176-CF8DE9AB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F97-D61A-4FF1-B752-E88F2858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8F0-14E2-4C89-A8F0-932DDF0B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4E6-5928-4D36-834E-0885AE28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A6C2-91F0-458D-BDF9-4D7C3FCC2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4197960" y="265464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Here l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Scroo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The only thing you can take to the grave is what you give during lif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 rot="16200000">
            <a:off x="5979240" y="3692880"/>
            <a:ext cx="3662280" cy="26668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L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OO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he live on in the past, the  present and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 </cp:lastModifiedBy>
  <dcterms:modified xsi:type="dcterms:W3CDTF">2009-12-10T23:35:19Z</dcterms:modified>
  <cp:revision>8</cp:revision>
  <dc:subject/>
  <dc:title>Slide 1</dc:title>
</cp:coreProperties>
</file>